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6219-36DE-467E-AB1E-1B6A5E0A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3D8-F21A-406D-82C4-C2DFA8D8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735-BFFA-4ACF-921E-9D7F4C4F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100-0EDF-44C5-BA92-0582E6C1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CF6-FA6E-48FF-BF0C-2E8DDE05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453C-0C56-41DE-999C-1B5DE417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B90-5AB7-4833-9A37-ABEADAB0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9C66-5E39-4856-BBF8-20C69212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8A42-5E80-491A-960E-4EA762D7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E40-E70C-477E-BA53-7C3CDBB3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736A-3178-426B-A61F-8E0F9B7A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21A6-09A6-4708-A6B1-09DC0EF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6B70-0251-40C8-BE13-19B833F0D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662940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ini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/sie/es f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fek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m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… gem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li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 … gele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ge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ist…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gan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la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schlä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 …geschla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bei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arbeit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… gearbeit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au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scha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… gescha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ie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spie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…gespie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läu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ist… gelau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sie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 … gese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uc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besu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 …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uc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h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fäh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ist gefah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l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il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…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hol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h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nim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 hat…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om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4:48:02Z</dcterms:created>
  <dc:creator>ahart</dc:creator>
  <dc:description/>
  <dc:language>en-US</dc:language>
  <cp:lastModifiedBy>Alissa</cp:lastModifiedBy>
  <dcterms:modified xsi:type="dcterms:W3CDTF">2013-12-31T22:32:31Z</dcterms:modified>
  <cp:revision>9</cp:revision>
  <dc:subject/>
  <dc:title>Slide 1</dc:title>
</cp:coreProperties>
</file>